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0E6-BC6C-4414-B135-4CA61152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B3E-EE67-47FB-87E0-06EBACF2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8AC-81FF-417E-89B6-FF53908C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7C1-BD56-4881-A89D-D5642193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EE6-1276-4FC3-9E2F-13F5737A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17F-3FEF-4743-8897-85715B82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698-B737-4214-A0FC-CFBD1AE7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215-D564-4DBB-BD28-FF604ACC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AC9-D211-4CB9-8DA9-B57CDE69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3B1-4526-4701-9E05-D52D047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1E4-8E24-4A03-95AC-95014A3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8AD-4CA1-48A0-96A7-1D816B74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189-B9D3-4F8C-BD21-52E4649CD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43560" y="2257560"/>
            <a:ext cx="1143000" cy="31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236232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5240" y="2629080"/>
            <a:ext cx="5396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5080" y="2990880"/>
            <a:ext cx="401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8160" y="3278160"/>
            <a:ext cx="255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2160" y="3581280"/>
            <a:ext cx="13644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9160" y="3772080"/>
            <a:ext cx="921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880" bIns="309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2920" y="3933720"/>
            <a:ext cx="4608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3960" bIns="-118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4060800"/>
            <a:ext cx="27000" cy="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-291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1800" y="4390920"/>
            <a:ext cx="104760" cy="1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1800" y="4572000"/>
            <a:ext cx="104760" cy="104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1800" y="4753080"/>
            <a:ext cx="104760" cy="1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1800" y="4933800"/>
            <a:ext cx="1047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6200" y="522936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96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6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400" y="5381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524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523880"/>
            <a:ext cx="695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6320" y="191448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2230560"/>
            <a:ext cx="3286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2600280"/>
            <a:ext cx="17316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2857680"/>
            <a:ext cx="12852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9880" y="3067200"/>
            <a:ext cx="730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160" bIns="212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9600" y="3232080"/>
            <a:ext cx="5544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6320" y="117144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9880" y="1371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12080" y="419112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12080" y="4371840"/>
            <a:ext cx="136440" cy="12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2080" y="455292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12080" y="473400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9880" y="387684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6320" y="3648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28120" y="50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5553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1666800"/>
            <a:ext cx="6951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3680" y="205740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2373480"/>
            <a:ext cx="328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6840" y="2743200"/>
            <a:ext cx="17280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8800" y="3000240"/>
            <a:ext cx="12888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37600" y="3209760"/>
            <a:ext cx="730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520" bIns="216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6960" y="3375000"/>
            <a:ext cx="55800" cy="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9880" y="520056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0400" y="447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472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760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080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336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336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336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080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760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5381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388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523880"/>
            <a:ext cx="5112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8040" y="1914480"/>
            <a:ext cx="374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2230560"/>
            <a:ext cx="22860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260028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3560" y="2857680"/>
            <a:ext cx="6336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3067200"/>
            <a:ext cx="4608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0440" bIns="-183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3208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080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476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336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080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336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0560" y="1305000"/>
            <a:ext cx="12956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13906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6320" y="378144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6320" y="396252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4143240"/>
            <a:ext cx="136440" cy="1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6320" y="432432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35434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0560" y="345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457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200" y="578160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1600200"/>
            <a:ext cx="347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9680" y="1990800"/>
            <a:ext cx="2556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5760" y="2306520"/>
            <a:ext cx="165240" cy="15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676600"/>
            <a:ext cx="7308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4440" y="2933640"/>
            <a:ext cx="4608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720" bIns="-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8840" y="314316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98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8840" y="330840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4120" y="556272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2360" y="4552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4886280"/>
            <a:ext cx="136440" cy="13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4638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50673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524196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48:14Z</dcterms:created>
  <dc:creator>dk</dc:creator>
  <dc:description/>
  <dc:language>en-US</dc:language>
  <cp:lastModifiedBy>dk</cp:lastModifiedBy>
  <dcterms:modified xsi:type="dcterms:W3CDTF">1999-11-04T21:13:52Z</dcterms:modified>
  <cp:revision>10</cp:revision>
  <dc:subject/>
  <dc:title>No Slide Title</dc:title>
</cp:coreProperties>
</file>