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094-1CD7-4794-BBEA-72F79F50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E21-50A5-4CFC-BE70-4B737C27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A59-8435-456E-86EE-1AAD0B81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DCD-2DDC-43DE-BDE6-C8BDE43F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C7A-9C38-42E9-8F32-B83421F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9E3-4FE9-4629-B511-F4C5406F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616-1361-4143-8EFF-2046907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83D-7A17-470C-8AAD-05C3682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952-6B13-48EB-9ECE-467CCA9D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CDE-1E58-4203-8EC4-7FCE988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0C9-CCC8-4F2F-8333-E343D72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08F-58E8-4550-8BB5-7BABE2E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6807-3755-4951-82ED-1E18F7FD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43560" y="2257560"/>
            <a:ext cx="1143000" cy="31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236232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5240" y="2629080"/>
            <a:ext cx="5396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5080" y="2990880"/>
            <a:ext cx="401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8160" y="3278160"/>
            <a:ext cx="255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2160" y="3581280"/>
            <a:ext cx="13644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9160" y="3772080"/>
            <a:ext cx="921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880" bIns="309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2920" y="3933720"/>
            <a:ext cx="46080" cy="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3960" bIns="-118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4060800"/>
            <a:ext cx="27000" cy="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5560" bIns="-291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1800" y="4390920"/>
            <a:ext cx="104760" cy="1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1800" y="4572000"/>
            <a:ext cx="104760" cy="104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1800" y="4753080"/>
            <a:ext cx="104760" cy="1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1800" y="4933800"/>
            <a:ext cx="10476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6200" y="522936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96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6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400" y="5381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524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523880"/>
            <a:ext cx="6955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46320" y="191448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2230560"/>
            <a:ext cx="3286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2600280"/>
            <a:ext cx="17316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1440" y="2857680"/>
            <a:ext cx="12852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9880" y="3067200"/>
            <a:ext cx="730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160" bIns="212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9600" y="3232080"/>
            <a:ext cx="5544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6320" y="117144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9880" y="1371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12080" y="419112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12080" y="4371840"/>
            <a:ext cx="136440" cy="12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2080" y="455292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12080" y="473400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9880" y="387684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6320" y="3648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28120" y="50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555300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6560" y="1666800"/>
            <a:ext cx="6951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3680" y="2057400"/>
            <a:ext cx="52056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2373480"/>
            <a:ext cx="3283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6840" y="2743200"/>
            <a:ext cx="17280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8800" y="3000240"/>
            <a:ext cx="128880" cy="1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37600" y="3209760"/>
            <a:ext cx="730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9520" bIns="216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6960" y="3375000"/>
            <a:ext cx="55800" cy="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59880" y="520056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0400" y="447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472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72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7600" y="1228680"/>
            <a:ext cx="12952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0800" y="131436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73360" y="3705120"/>
            <a:ext cx="13644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3360" y="388620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3360" y="4067280"/>
            <a:ext cx="136440" cy="1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248000"/>
            <a:ext cx="136440" cy="1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0800" y="346716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7600" y="33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5381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3880" y="5705640"/>
            <a:ext cx="9540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9640" y="1523880"/>
            <a:ext cx="5112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8040" y="1914480"/>
            <a:ext cx="374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2230560"/>
            <a:ext cx="22860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260028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3560" y="2857680"/>
            <a:ext cx="6336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1480" y="3067200"/>
            <a:ext cx="4608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0440" bIns="-1836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3208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0800" y="5486400"/>
            <a:ext cx="10288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476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3360" y="4809960"/>
            <a:ext cx="136440" cy="1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0800" y="4562640"/>
            <a:ext cx="10288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4991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73360" y="516564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0560" y="1305000"/>
            <a:ext cx="12956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13906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6320" y="3781440"/>
            <a:ext cx="13644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6320" y="3962520"/>
            <a:ext cx="13644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6320" y="4143240"/>
            <a:ext cx="136440" cy="1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6320" y="4324320"/>
            <a:ext cx="1364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gt; 1 WE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354348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0560" y="34574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5457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37200" y="5781600"/>
            <a:ext cx="95040" cy="85680"/>
          </a:xfrm>
          <a:prstGeom prst="triangle">
            <a:avLst>
              <a:gd name="adj" fmla="val 50000"/>
            </a:avLst>
          </a:prstGeom>
          <a:solidFill>
            <a:srgbClr val="f1b7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3600" y="1600200"/>
            <a:ext cx="3477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9680" y="1990800"/>
            <a:ext cx="2556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5760" y="2306520"/>
            <a:ext cx="165240" cy="15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676600"/>
            <a:ext cx="7308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56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4440" y="2933640"/>
            <a:ext cx="4608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720" bIns="-864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68840" y="314316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98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8840" y="3308400"/>
            <a:ext cx="27000" cy="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000" bIns="-2772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4120" y="5562720"/>
            <a:ext cx="10285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2360" y="4552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6320" y="4886280"/>
            <a:ext cx="136440" cy="13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 70 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4120" y="4638600"/>
            <a:ext cx="102852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50673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 35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5241960"/>
            <a:ext cx="136440" cy="136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0+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48:14Z</dcterms:created>
  <dc:creator>dk</dc:creator>
  <dc:description/>
  <dc:language>en-US</dc:language>
  <cp:lastModifiedBy>dk</cp:lastModifiedBy>
  <dcterms:modified xsi:type="dcterms:W3CDTF">1999-11-04T21:13:52Z</dcterms:modified>
  <cp:revision>10</cp:revision>
  <dc:subject/>
  <dc:title>No Slide Title</dc:title>
</cp:coreProperties>
</file>