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C161-A298-4A8B-84BE-5497D8F68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E521-A2F6-41E7-ACDD-A98D0512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119A-093F-47A9-BB1A-5D0BFF048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6B5D-6D68-4895-836D-277998CF7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7663-F9BF-427D-AFA0-CD751866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A2E0-41FA-4320-B4E4-75225165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EA98-74C2-4E5A-AF28-8F62948B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5B37-2353-4B72-9DC1-2362222E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A4C6-5110-4FD5-91E9-F0B09023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0720-4F7B-4441-B119-ABA95099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30CB-9794-4C96-9657-048BD36C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6A79-3612-4274-A31B-00A49935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E5C0-D92F-4B73-88B0-5AAC8A0E6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43560" y="2257560"/>
            <a:ext cx="1143000" cy="31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00800" y="2362320"/>
            <a:ext cx="102888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645240" y="2629080"/>
            <a:ext cx="53964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15080" y="2990880"/>
            <a:ext cx="40176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8160" y="3278160"/>
            <a:ext cx="25560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2160" y="3581280"/>
            <a:ext cx="136440" cy="1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69160" y="3772080"/>
            <a:ext cx="92160" cy="8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8880" bIns="3096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92920" y="3933720"/>
            <a:ext cx="46080" cy="4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3960" bIns="-1188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02280" y="4060800"/>
            <a:ext cx="27000" cy="2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5560" bIns="-2916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81800" y="4390920"/>
            <a:ext cx="104760" cy="104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HO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81800" y="4572000"/>
            <a:ext cx="104760" cy="1047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D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81800" y="4753080"/>
            <a:ext cx="104760" cy="10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81800" y="4933800"/>
            <a:ext cx="104760" cy="1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gt; 1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96200" y="5229360"/>
            <a:ext cx="95040" cy="85680"/>
          </a:xfrm>
          <a:prstGeom prst="triangle">
            <a:avLst>
              <a:gd name="adj" fmla="val 50000"/>
            </a:avLst>
          </a:prstGeom>
          <a:solidFill>
            <a:srgbClr val="f1b7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58960" y="1228680"/>
            <a:ext cx="129528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2160" y="1314360"/>
            <a:ext cx="102888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44720" y="3705120"/>
            <a:ext cx="136440" cy="136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HO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4720" y="3886200"/>
            <a:ext cx="136440" cy="128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D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44720" y="4067280"/>
            <a:ext cx="136440" cy="128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4720" y="4248000"/>
            <a:ext cx="136440" cy="1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gt; 1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2160" y="3467160"/>
            <a:ext cx="102888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58960" y="3381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60400" y="5381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5240" y="5705640"/>
            <a:ext cx="95400" cy="85680"/>
          </a:xfrm>
          <a:prstGeom prst="triangle">
            <a:avLst>
              <a:gd name="adj" fmla="val 50000"/>
            </a:avLst>
          </a:prstGeom>
          <a:solidFill>
            <a:srgbClr val="f1b7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58840" y="1523880"/>
            <a:ext cx="695520" cy="66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46320" y="1914480"/>
            <a:ext cx="520560" cy="49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41360" y="2230560"/>
            <a:ext cx="32868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19120" y="2600280"/>
            <a:ext cx="173160" cy="17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1440" y="2857680"/>
            <a:ext cx="128520" cy="12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69880" y="3067200"/>
            <a:ext cx="730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9160" bIns="2124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79600" y="3232080"/>
            <a:ext cx="55440" cy="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2160" y="5486400"/>
            <a:ext cx="102888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26320" y="1171440"/>
            <a:ext cx="129528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859880" y="1371600"/>
            <a:ext cx="102852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912080" y="4191120"/>
            <a:ext cx="136440" cy="136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HO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12080" y="4371840"/>
            <a:ext cx="136440" cy="128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D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912080" y="4552920"/>
            <a:ext cx="136440" cy="128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12080" y="4734000"/>
            <a:ext cx="136440" cy="1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gt; 1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59880" y="3876840"/>
            <a:ext cx="102852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26320" y="36482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28120" y="5076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932600" y="5553000"/>
            <a:ext cx="95400" cy="85680"/>
          </a:xfrm>
          <a:prstGeom prst="triangle">
            <a:avLst>
              <a:gd name="adj" fmla="val 50000"/>
            </a:avLst>
          </a:prstGeom>
          <a:solidFill>
            <a:srgbClr val="f1b7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026560" y="1666800"/>
            <a:ext cx="695160" cy="66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13680" y="2057400"/>
            <a:ext cx="520560" cy="49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209080" y="2373480"/>
            <a:ext cx="32832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86840" y="2743200"/>
            <a:ext cx="172800" cy="17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08800" y="3000240"/>
            <a:ext cx="128880" cy="12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37600" y="3209760"/>
            <a:ext cx="730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9520" bIns="216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46960" y="3375000"/>
            <a:ext cx="55800" cy="5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59880" y="5200560"/>
            <a:ext cx="102852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60400" y="4476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44720" y="4809960"/>
            <a:ext cx="136440" cy="13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 70 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2160" y="4562640"/>
            <a:ext cx="102888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44720" y="4991040"/>
            <a:ext cx="136440" cy="13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350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44720" y="5165640"/>
            <a:ext cx="136440" cy="1364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50+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87600" y="1228680"/>
            <a:ext cx="129528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20800" y="1314360"/>
            <a:ext cx="102888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73360" y="3705120"/>
            <a:ext cx="136440" cy="136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HO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73360" y="3886200"/>
            <a:ext cx="136440" cy="128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D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73360" y="4067280"/>
            <a:ext cx="136440" cy="128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73360" y="4248000"/>
            <a:ext cx="136440" cy="1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gt; 1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20800" y="3467160"/>
            <a:ext cx="102888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87600" y="3381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89040" y="53816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93880" y="5705640"/>
            <a:ext cx="95400" cy="85680"/>
          </a:xfrm>
          <a:prstGeom prst="triangle">
            <a:avLst>
              <a:gd name="adj" fmla="val 50000"/>
            </a:avLst>
          </a:prstGeom>
          <a:solidFill>
            <a:srgbClr val="f1b7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79640" y="1523880"/>
            <a:ext cx="511200" cy="49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48040" y="1914480"/>
            <a:ext cx="37476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21120" y="2230560"/>
            <a:ext cx="228600" cy="21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67200" y="2600280"/>
            <a:ext cx="136440" cy="1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03560" y="2857680"/>
            <a:ext cx="63360" cy="6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560" bIns="864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11480" y="3067200"/>
            <a:ext cx="46080" cy="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10440" bIns="-1836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5880" y="3232080"/>
            <a:ext cx="27000" cy="2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7000" bIns="-2772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20800" y="5486400"/>
            <a:ext cx="102888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89040" y="4476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73360" y="4809960"/>
            <a:ext cx="136440" cy="13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 70 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20800" y="4562640"/>
            <a:ext cx="102888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4991040"/>
            <a:ext cx="136440" cy="13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350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73360" y="5165640"/>
            <a:ext cx="136440" cy="1364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50+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30560" y="1305000"/>
            <a:ext cx="1295640" cy="464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64120" y="1390680"/>
            <a:ext cx="102852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16320" y="3781440"/>
            <a:ext cx="136440" cy="136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HO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16320" y="3962520"/>
            <a:ext cx="136440" cy="128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D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16320" y="4143240"/>
            <a:ext cx="136440" cy="12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16320" y="4324320"/>
            <a:ext cx="136440" cy="1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gt; 1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64120" y="3543480"/>
            <a:ext cx="102852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30560" y="34574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32360" y="54579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37200" y="5781600"/>
            <a:ext cx="95040" cy="85680"/>
          </a:xfrm>
          <a:prstGeom prst="triangle">
            <a:avLst>
              <a:gd name="adj" fmla="val 50000"/>
            </a:avLst>
          </a:prstGeom>
          <a:solidFill>
            <a:srgbClr val="f1b7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03600" y="1600200"/>
            <a:ext cx="34776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49680" y="1990800"/>
            <a:ext cx="255600" cy="24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95760" y="2306520"/>
            <a:ext cx="165240" cy="15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6520" y="2676600"/>
            <a:ext cx="73080" cy="6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560" bIns="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54440" y="2933640"/>
            <a:ext cx="46080" cy="4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720" bIns="-864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68840" y="3143160"/>
            <a:ext cx="27000" cy="2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19800" bIns="-2772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68840" y="3308400"/>
            <a:ext cx="27000" cy="2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7000" bIns="-2772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64120" y="5562720"/>
            <a:ext cx="102852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32360" y="4552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16320" y="4886280"/>
            <a:ext cx="136440" cy="13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 70 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64120" y="4638600"/>
            <a:ext cx="102852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16320" y="5067360"/>
            <a:ext cx="136440" cy="13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350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16320" y="5241960"/>
            <a:ext cx="136440" cy="1364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50+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2T21:48:14Z</dcterms:created>
  <dc:creator>dk</dc:creator>
  <dc:description/>
  <dc:language>en-US</dc:language>
  <cp:lastModifiedBy>dk</cp:lastModifiedBy>
  <dcterms:modified xsi:type="dcterms:W3CDTF">1999-11-04T21:13:52Z</dcterms:modified>
  <cp:revision>10</cp:revision>
  <dc:subject/>
  <dc:title>No Slide Title</dc:title>
</cp:coreProperties>
</file>