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D90D-94C2-4E23-BDB0-446230722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8BA6-FCD3-4E7D-A257-8712B59C4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35D6-4CDE-4548-9B27-F3F3DC14D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4E99-174E-42BC-B9DD-AE5C82D31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9C24-1FB8-407C-AAB2-5D6448620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6714-36AD-4AA9-9349-F88B1BF9A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5CDC-C874-48D0-B4C2-34E8F892D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2D3B-5562-42B6-B27A-CB32E60F6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A8C0-15B2-45CB-8B4B-C8BB81E94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A2BA-9CFC-40C2-98C9-69C5352D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4420-7D68-48E6-897B-1EDEBF96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029D-E3FC-4328-8D4A-87256A56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DB0F8-3EFF-4590-8F26-11325CD31C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343560" y="2257560"/>
            <a:ext cx="1143000" cy="31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400800" y="2362320"/>
            <a:ext cx="102888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GNITU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645240" y="2629080"/>
            <a:ext cx="539640" cy="50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715080" y="2990880"/>
            <a:ext cx="40176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88160" y="3278160"/>
            <a:ext cx="255600" cy="23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42160" y="3581280"/>
            <a:ext cx="136440" cy="1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72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69160" y="3772080"/>
            <a:ext cx="92160" cy="8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38880" bIns="3096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92920" y="3933720"/>
            <a:ext cx="46080" cy="4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3960" bIns="-1188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902280" y="4060800"/>
            <a:ext cx="27000" cy="2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5560" bIns="-2916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481800" y="4390920"/>
            <a:ext cx="104760" cy="104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HOU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481800" y="4572000"/>
            <a:ext cx="104760" cy="1047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D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81800" y="4753080"/>
            <a:ext cx="104760" cy="104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WEE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481800" y="4933800"/>
            <a:ext cx="104760" cy="10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gt; 1 WEE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96200" y="5229360"/>
            <a:ext cx="95040" cy="85680"/>
          </a:xfrm>
          <a:prstGeom prst="triangle">
            <a:avLst>
              <a:gd name="adj" fmla="val 50000"/>
            </a:avLst>
          </a:prstGeom>
          <a:solidFill>
            <a:srgbClr val="f1b7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58960" y="1228680"/>
            <a:ext cx="129528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92160" y="1314360"/>
            <a:ext cx="1028880" cy="11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GNITU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44720" y="3705120"/>
            <a:ext cx="136440" cy="136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HOU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44720" y="3886200"/>
            <a:ext cx="136440" cy="128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D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44720" y="4067280"/>
            <a:ext cx="136440" cy="128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WEE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44720" y="4248000"/>
            <a:ext cx="136440" cy="1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gt; 1 WEE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2160" y="3467160"/>
            <a:ext cx="102888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58960" y="3381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60400" y="538164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5240" y="5705640"/>
            <a:ext cx="95400" cy="85680"/>
          </a:xfrm>
          <a:prstGeom prst="triangle">
            <a:avLst>
              <a:gd name="adj" fmla="val 50000"/>
            </a:avLst>
          </a:prstGeom>
          <a:solidFill>
            <a:srgbClr val="f1b7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58840" y="1523880"/>
            <a:ext cx="695520" cy="66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46320" y="1914480"/>
            <a:ext cx="520560" cy="49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41360" y="2230560"/>
            <a:ext cx="328680" cy="32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419120" y="2600280"/>
            <a:ext cx="173160" cy="17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72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41440" y="2857680"/>
            <a:ext cx="128520" cy="12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72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69880" y="3067200"/>
            <a:ext cx="7308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9160" bIns="2124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79600" y="3232080"/>
            <a:ext cx="55440" cy="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720" bIns="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92160" y="5486400"/>
            <a:ext cx="1028880" cy="11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726320" y="1171440"/>
            <a:ext cx="129528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859880" y="1371600"/>
            <a:ext cx="1028520" cy="11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GNITU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912080" y="4191120"/>
            <a:ext cx="136440" cy="136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HOU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912080" y="4371840"/>
            <a:ext cx="136440" cy="1288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D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912080" y="4552920"/>
            <a:ext cx="136440" cy="128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WEE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12080" y="4734000"/>
            <a:ext cx="136440" cy="1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gt; 1 WEE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859880" y="3876840"/>
            <a:ext cx="102852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726320" y="364824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28120" y="5076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932600" y="5553000"/>
            <a:ext cx="95400" cy="85680"/>
          </a:xfrm>
          <a:prstGeom prst="triangle">
            <a:avLst>
              <a:gd name="adj" fmla="val 50000"/>
            </a:avLst>
          </a:prstGeom>
          <a:solidFill>
            <a:srgbClr val="f1b7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026560" y="1666800"/>
            <a:ext cx="695160" cy="66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113680" y="2057400"/>
            <a:ext cx="520560" cy="49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209080" y="2373480"/>
            <a:ext cx="328320" cy="32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286840" y="2743200"/>
            <a:ext cx="172800" cy="17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72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08800" y="3000240"/>
            <a:ext cx="128880" cy="12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72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337600" y="3209760"/>
            <a:ext cx="730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9520" bIns="216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46960" y="3375000"/>
            <a:ext cx="55800" cy="5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720" bIns="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859880" y="5200560"/>
            <a:ext cx="1028520" cy="11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60400" y="4476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44720" y="4809960"/>
            <a:ext cx="136440" cy="13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lt;  70  K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92160" y="4562640"/>
            <a:ext cx="102888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44720" y="4991040"/>
            <a:ext cx="136440" cy="13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lt; 350 K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44720" y="5165640"/>
            <a:ext cx="136440" cy="1364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50+ K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487600" y="1228680"/>
            <a:ext cx="129528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20800" y="1314360"/>
            <a:ext cx="1028880" cy="11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GNITU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73360" y="3705120"/>
            <a:ext cx="136440" cy="136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HOU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73360" y="3886200"/>
            <a:ext cx="136440" cy="128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D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73360" y="4067280"/>
            <a:ext cx="136440" cy="128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WEE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73360" y="4248000"/>
            <a:ext cx="136440" cy="1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gt; 1 WEE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20800" y="3467160"/>
            <a:ext cx="102888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487600" y="3381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89040" y="538164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93880" y="5705640"/>
            <a:ext cx="95400" cy="85680"/>
          </a:xfrm>
          <a:prstGeom prst="triangle">
            <a:avLst>
              <a:gd name="adj" fmla="val 50000"/>
            </a:avLst>
          </a:prstGeom>
          <a:solidFill>
            <a:srgbClr val="f1b7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79640" y="1523880"/>
            <a:ext cx="511200" cy="49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48040" y="1914480"/>
            <a:ext cx="37476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21120" y="2230560"/>
            <a:ext cx="228600" cy="21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67200" y="2600280"/>
            <a:ext cx="136440" cy="1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72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03560" y="2857680"/>
            <a:ext cx="63360" cy="6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6560" bIns="864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11480" y="3067200"/>
            <a:ext cx="46080" cy="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10440" bIns="-1836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5880" y="3232080"/>
            <a:ext cx="27000" cy="2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7000" bIns="-2772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620800" y="5486400"/>
            <a:ext cx="1028880" cy="11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89040" y="4476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73360" y="4809960"/>
            <a:ext cx="136440" cy="13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lt;  70  K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20800" y="4562640"/>
            <a:ext cx="102888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4991040"/>
            <a:ext cx="136440" cy="13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lt; 350 K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73360" y="5165640"/>
            <a:ext cx="136440" cy="1364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50+ K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30560" y="1305000"/>
            <a:ext cx="1295640" cy="464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64120" y="1390680"/>
            <a:ext cx="102852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GNITU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16320" y="3781440"/>
            <a:ext cx="136440" cy="136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HOU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216320" y="3962520"/>
            <a:ext cx="136440" cy="128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D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16320" y="4143240"/>
            <a:ext cx="136440" cy="12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WEE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16320" y="4324320"/>
            <a:ext cx="136440" cy="1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gt; 1 WEE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64120" y="3543480"/>
            <a:ext cx="102852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30560" y="345744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32360" y="545796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37200" y="5781600"/>
            <a:ext cx="95040" cy="85680"/>
          </a:xfrm>
          <a:prstGeom prst="triangle">
            <a:avLst>
              <a:gd name="adj" fmla="val 50000"/>
            </a:avLst>
          </a:prstGeom>
          <a:solidFill>
            <a:srgbClr val="f1b7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03600" y="1600200"/>
            <a:ext cx="34776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49680" y="1990800"/>
            <a:ext cx="255600" cy="24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95760" y="2306520"/>
            <a:ext cx="165240" cy="15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46520" y="2676600"/>
            <a:ext cx="73080" cy="6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6560" bIns="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54440" y="2933640"/>
            <a:ext cx="46080" cy="4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720" bIns="-864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68840" y="3143160"/>
            <a:ext cx="27000" cy="2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19800" bIns="-2772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68840" y="3308400"/>
            <a:ext cx="27000" cy="2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7000" bIns="-2772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64120" y="5562720"/>
            <a:ext cx="102852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32360" y="45529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16320" y="4886280"/>
            <a:ext cx="136440" cy="13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lt;  70  K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64120" y="4638600"/>
            <a:ext cx="1028520" cy="11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216320" y="5067360"/>
            <a:ext cx="136440" cy="13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lt; 350 K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16320" y="5241960"/>
            <a:ext cx="136440" cy="1364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50+ K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2T21:48:14Z</dcterms:created>
  <dc:creator>dk</dc:creator>
  <dc:description/>
  <dc:language>en-US</dc:language>
  <cp:lastModifiedBy>dk</cp:lastModifiedBy>
  <dcterms:modified xsi:type="dcterms:W3CDTF">1999-11-04T21:13:52Z</dcterms:modified>
  <cp:revision>10</cp:revision>
  <dc:subject/>
  <dc:title>No Slide Title</dc:title>
</cp:coreProperties>
</file>