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284-3B6B-455C-81DF-A4A06C88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8C3-273C-45D1-BC9A-7FB746ED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67B-6B84-460D-857E-7AFF77A2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F4E-2558-4345-B6E6-A5764072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415-2BDF-41FC-A9F1-991CD2FC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D78-8648-49F1-AD1A-A3CCD0DB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90E-6D99-4BDC-8E30-90528B6F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409-C3E5-4B6F-910E-1291C088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B45-8F4F-4915-B1BB-74CB4E7A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820-E798-450A-A20C-FB3F78E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2B0-1C71-4102-8F0C-76C6CCA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114-A920-4816-92DE-56FF045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339-4B02-47DC-B456-D0E81CF7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43560" y="2257560"/>
            <a:ext cx="1143000" cy="31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236232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5240" y="2629080"/>
            <a:ext cx="5396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5080" y="2990880"/>
            <a:ext cx="401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8160" y="3278160"/>
            <a:ext cx="255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2160" y="3581280"/>
            <a:ext cx="13644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9160" y="3772080"/>
            <a:ext cx="921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880" bIns="309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2920" y="3933720"/>
            <a:ext cx="4608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3960" bIns="-118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4060800"/>
            <a:ext cx="27000" cy="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-291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1800" y="4390920"/>
            <a:ext cx="104760" cy="1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1800" y="4572000"/>
            <a:ext cx="104760" cy="104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1800" y="4753080"/>
            <a:ext cx="104760" cy="1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1800" y="4933800"/>
            <a:ext cx="1047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6200" y="522936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96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6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400" y="5381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524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523880"/>
            <a:ext cx="695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6320" y="191448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2230560"/>
            <a:ext cx="3286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2600280"/>
            <a:ext cx="17316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2857680"/>
            <a:ext cx="12852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9880" y="3067200"/>
            <a:ext cx="730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160" bIns="212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9600" y="3232080"/>
            <a:ext cx="5544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6320" y="117144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9880" y="1371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12080" y="419112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12080" y="4371840"/>
            <a:ext cx="136440" cy="12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2080" y="455292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12080" y="473400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9880" y="387684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6320" y="3648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28120" y="50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5553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1666800"/>
            <a:ext cx="6951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3680" y="205740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2373480"/>
            <a:ext cx="328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6840" y="2743200"/>
            <a:ext cx="17280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8800" y="3000240"/>
            <a:ext cx="12888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37600" y="3209760"/>
            <a:ext cx="730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520" bIns="216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6960" y="3375000"/>
            <a:ext cx="55800" cy="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9880" y="520056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0400" y="447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472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760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080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336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336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336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080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760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5381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388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523880"/>
            <a:ext cx="5112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8040" y="1914480"/>
            <a:ext cx="374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2230560"/>
            <a:ext cx="22860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260028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3560" y="2857680"/>
            <a:ext cx="6336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3067200"/>
            <a:ext cx="4608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0440" bIns="-183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3208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080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476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336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080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336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0560" y="1305000"/>
            <a:ext cx="12956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13906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6320" y="378144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6320" y="396252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4143240"/>
            <a:ext cx="136440" cy="1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6320" y="432432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35434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0560" y="345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457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200" y="578160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1600200"/>
            <a:ext cx="347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9680" y="1990800"/>
            <a:ext cx="2556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5760" y="2306520"/>
            <a:ext cx="165240" cy="15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676600"/>
            <a:ext cx="7308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4440" y="2933640"/>
            <a:ext cx="4608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720" bIns="-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8840" y="314316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98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8840" y="330840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4120" y="556272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2360" y="4552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4886280"/>
            <a:ext cx="136440" cy="13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4638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50673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524196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48:14Z</dcterms:created>
  <dc:creator>dk</dc:creator>
  <dc:description/>
  <dc:language>en-US</dc:language>
  <cp:lastModifiedBy>dk</cp:lastModifiedBy>
  <dcterms:modified xsi:type="dcterms:W3CDTF">1999-11-04T21:13:52Z</dcterms:modified>
  <cp:revision>10</cp:revision>
  <dc:subject/>
  <dc:title>No Slide Title</dc:title>
</cp:coreProperties>
</file>