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848-011B-4FFE-92EE-D66967F6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377-DF02-4EED-9A57-65B72ED5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F8FD-DC5E-49B0-BDB3-B2AB2537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C65-980A-4392-B7FA-12B47476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D72-B5DD-4790-8AA7-B1302FB6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963-0DA4-4337-A6F3-B11DC83C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3BD-8762-4F4C-B017-B8C3347B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EED-F313-41B0-9DD1-C3F30D17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0DB-35D7-48A9-98EE-D0BC9FF0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862-CF7F-41E2-8CB2-3F0B4A93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F3A-43DF-4599-8BB9-A5C66B97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5F77-8B21-4522-9A66-98ABF0AE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7B23-791D-4DD7-8B42-E13624348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43560" y="2257560"/>
            <a:ext cx="1143000" cy="31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236232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45240" y="2629080"/>
            <a:ext cx="5396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15080" y="2990880"/>
            <a:ext cx="4017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8160" y="3278160"/>
            <a:ext cx="255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2160" y="3581280"/>
            <a:ext cx="136440" cy="1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69160" y="3772080"/>
            <a:ext cx="92160" cy="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8880" bIns="309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92920" y="3933720"/>
            <a:ext cx="46080" cy="4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3960" bIns="-1188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02280" y="4060800"/>
            <a:ext cx="27000" cy="2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5560" bIns="-291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1800" y="4390920"/>
            <a:ext cx="104760" cy="104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1800" y="4572000"/>
            <a:ext cx="104760" cy="1047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81800" y="4753080"/>
            <a:ext cx="104760" cy="10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1800" y="4933800"/>
            <a:ext cx="104760" cy="1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96200" y="5229360"/>
            <a:ext cx="9504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8960" y="122868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2160" y="131436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4720" y="3705120"/>
            <a:ext cx="136440" cy="136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4720" y="388620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44720" y="406728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4720" y="4248000"/>
            <a:ext cx="1364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2160" y="346716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8960" y="33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60400" y="5381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5240" y="570564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8840" y="1523880"/>
            <a:ext cx="69552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46320" y="1914480"/>
            <a:ext cx="52056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41360" y="2230560"/>
            <a:ext cx="3286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19120" y="2600280"/>
            <a:ext cx="173160" cy="1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1440" y="2857680"/>
            <a:ext cx="12852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69880" y="3067200"/>
            <a:ext cx="730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9160" bIns="212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79600" y="3232080"/>
            <a:ext cx="55440" cy="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2160" y="548640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26320" y="117144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59880" y="137160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12080" y="4191120"/>
            <a:ext cx="136440" cy="136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12080" y="4371840"/>
            <a:ext cx="136440" cy="12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12080" y="455292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12080" y="473400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59880" y="387684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26320" y="36482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28120" y="5076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32600" y="555300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26560" y="1666800"/>
            <a:ext cx="69516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3680" y="2057400"/>
            <a:ext cx="52056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09080" y="2373480"/>
            <a:ext cx="32832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6840" y="2743200"/>
            <a:ext cx="172800" cy="1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8800" y="3000240"/>
            <a:ext cx="128880" cy="1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37600" y="3209760"/>
            <a:ext cx="730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9520" bIns="216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46960" y="3375000"/>
            <a:ext cx="55800" cy="5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59880" y="520056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0400" y="4476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4720" y="4809960"/>
            <a:ext cx="136440" cy="13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2160" y="456264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44720" y="499104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4720" y="516564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87600" y="122868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20800" y="131436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73360" y="3705120"/>
            <a:ext cx="136440" cy="136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73360" y="388620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73360" y="406728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73360" y="4248000"/>
            <a:ext cx="1364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20800" y="346716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87600" y="33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9040" y="5381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93880" y="570564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79640" y="1523880"/>
            <a:ext cx="511200" cy="49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48040" y="1914480"/>
            <a:ext cx="37476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21120" y="2230560"/>
            <a:ext cx="228600" cy="21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67200" y="260028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03560" y="2857680"/>
            <a:ext cx="6336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560" bIns="86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11480" y="3067200"/>
            <a:ext cx="46080" cy="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0440" bIns="-183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323208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0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20800" y="548640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9040" y="4476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73360" y="4809960"/>
            <a:ext cx="136440" cy="13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20800" y="456264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499104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73360" y="516564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0560" y="1305000"/>
            <a:ext cx="129564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64120" y="139068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16320" y="3781440"/>
            <a:ext cx="136440" cy="136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16320" y="396252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16320" y="4143240"/>
            <a:ext cx="136440" cy="1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6320" y="432432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64120" y="354348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0560" y="34574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2360" y="54579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37200" y="5781600"/>
            <a:ext cx="9504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03600" y="1600200"/>
            <a:ext cx="34776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49680" y="1990800"/>
            <a:ext cx="255600" cy="24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95760" y="2306520"/>
            <a:ext cx="165240" cy="15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6520" y="2676600"/>
            <a:ext cx="7308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56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54440" y="2933640"/>
            <a:ext cx="4608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720" bIns="-86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68840" y="314316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98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68840" y="330840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0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64120" y="556272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2360" y="4552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6320" y="4886280"/>
            <a:ext cx="136440" cy="13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64120" y="463860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6320" y="506736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16320" y="524196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48:14Z</dcterms:created>
  <dc:creator>dk</dc:creator>
  <dc:description/>
  <dc:language>en-US</dc:language>
  <cp:lastModifiedBy>dk</cp:lastModifiedBy>
  <dcterms:modified xsi:type="dcterms:W3CDTF">1999-11-04T21:13:52Z</dcterms:modified>
  <cp:revision>10</cp:revision>
  <dc:subject/>
  <dc:title>No Slide Title</dc:title>
</cp:coreProperties>
</file>